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99E-D772-4284-8863-3B387F98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0A3-FEEF-4744-BE8D-D3E91AF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471-E8A1-4015-9525-96BED960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AAF-DDE3-45F3-9178-02CA547C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BDC-CC7B-496A-96FD-57F5F395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CC7-D119-47BB-A2AD-F87C65B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5FA-8BF1-42DE-937B-13B89B84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033-970A-437E-9702-D1505986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029-68F9-459A-8F04-ABE39DD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A6E-A4E0-40F5-8395-DF1A8DA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60A-3019-4948-8E65-1EAB13F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76B-4B85-453B-9134-839DE0C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607-033E-4501-BBD9-494F42198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6500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2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طنا ربِّ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أْلأَتْ كُلُّ هَضْبَةٍ فَوْقَ لُبْنَان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ُصَلِّي، وَهَامَ كُلُّ فَض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سَامَى مَجَامِرا جَبَلُ الأَطْياب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َافْتَحْ، يَا رَبِّ، بَابَ السَّم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 رُدَّ الأَهْوَالَ أَقْبَلْنَ يَضْرِبْن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َجُدْ لاتَ مَا خَلاكَ يَجُود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، جَلَّتْ يُمْنَاكَ لا تَعْرِفُ القَبْض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َمَنْ مِنْكَ، رَبِّ لا يَسْتَزِيدُ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َمَا غَـبَّتِ الْحَسَاسِينُ مِنْ م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رَنَتْ حُلْوَةً إِلَيْكَ بشُكْر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عَالَتْ إِلَيْكَ فِي لَفْتَةِ الصُّبْح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َلاةً مِنْ زَقْزَقَاتٍ وَزَهْرِ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مِّعَتْ، رَبِّيَ، الْخَلِيقَةُ فِي صَوْت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نَاجِي، وَسَبَّحَتْ تَتَغَنّ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َمَلَّتْ، فِي رِفْعَةِ الرَّأْسِ وَالطَّرْف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ثـُوّاً مِنْ رُكْبَتَيْنِ وَوَهْ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أَنَا أَسْتَجِيرُ بالرَّحْمَةِ الأُول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نُورِ الأَنْوَارِ، بالْيُنْب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تَقَبَّلْ، رَبِّي، قَرَابينَ حُبّ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رَجَاءٍ، وَذِلَّةٍ، وَدُم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رأَّفْ يَا أيُّهَا السَّعَةُ الكُبْر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َرَأَّفْ باللاّئِذِ الْمُحْتَاج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انْصُرِ الْقَابسِينَ مِنْ فَيْضِكَ النُّور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ِلَى الْكَوْكَبِ الضَّلُولِ الدَّاجِ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9:04:28Z</dcterms:created>
  <dc:creator>Charbel Azar</dc:creator>
  <dc:description/>
  <dc:language>en-US</dc:language>
  <cp:lastModifiedBy>ف</cp:lastModifiedBy>
  <dcterms:modified xsi:type="dcterms:W3CDTF">2006-09-13T18:08:42Z</dcterms:modified>
  <cp:revision>10</cp:revision>
  <dc:subject/>
  <dc:title>Slide 1</dc:title>
</cp:coreProperties>
</file>